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994-9823-4C7F-9C8E-4ACEB90A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FD0-1F0A-4F92-BC7C-607DDBCF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561-4671-41D7-8AEA-8E028AF6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16F-92CF-46FE-90F1-3EB6427A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B82C-CA27-4C0E-A6B3-101719E2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1421-92F9-4A55-9498-138D428D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8341-9201-49A1-A098-B42995D7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462B-3A91-4A6A-A7FA-5F9D3513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41FD-A42E-43A7-8885-CBE06EE6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7DDD-533C-444C-BECE-538B53E7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2FBD-D0C0-4D69-8813-92CB2438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6C0-EAC0-4562-8938-5FAEBCF0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31A8-0D06-4ED2-B53F-2A47D0EE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9885-424E-4612-8918-E76E18B3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5F65-D7F6-46E4-95B6-64871BC5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91F3-A173-4ACD-9EAE-4269C8E1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9906-E057-4C2C-9354-D2695759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676-DB78-40AF-B237-A73A034F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C37-0A27-4BBF-B85A-DC741030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032-5BBB-4955-8E7F-0BC864DD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7FF-B4EE-4AFD-AB72-B777B193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84B-9874-4418-8D9C-C2421FF3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C59-ED3E-4632-8443-E9087E0C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7EC-E02C-493D-86B1-E9EF4FC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924F-A41C-44EF-9B98-688702967617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EF2-3734-40E6-93FE-16EC2BF87C46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10666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Lesson One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A Private Conversation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NA00864_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25146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01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sk and answer in pair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ere did you go last week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 you have a good sea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as it an interesting pla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You enjoyed the play, didn’t you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o was sitting behind you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ould you hear what the actors were saying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couldn’t you hear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were they doing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 you get angry with them or no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you do then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y didn’t pay any attention, did the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ould you bear i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you do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the young man sa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98560" y="609480"/>
            <a:ext cx="7178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Last week---went---thea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dn’t enjoy---pla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young man---woman---behind 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alking loud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ould not ---ac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 turned---and looked---angri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dn’t pay---atten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the end---couldn’t be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an’t hear---word’---sai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none---business’---man---’private’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did the writer complain to the people behind him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952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mplain (to sb.) about s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24200"/>
            <a:ext cx="85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 always ______________________________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抱怨天气不好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19051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lains about the bad weath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672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 complained that _____________________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屋子里太热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22640" y="3048120"/>
            <a:ext cx="39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om was too ho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343400"/>
            <a:ext cx="844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学生们向老师抱怨作业太多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724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students sometimes complain to the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eachers about too much homework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9700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ast week I went to the theatre. I had a very good seat. The play was very interesting. I did not </a:t>
            </a:r>
            <a:r>
              <a:rPr b="0" lang="en-US" sz="3200" spc="-1" strike="noStrike" u="sng">
                <a:solidFill>
                  <a:srgbClr val="bdd7e5"/>
                </a:solidFill>
                <a:uFillTx/>
                <a:latin typeface="Times New Roman"/>
                <a:hlinkClick r:id="rId2" action="ppaction://hlinksldjump"/>
              </a:rPr>
              <a:t>enjoy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it. A young man and a young woman were sitting behind me. They were talking loudly. I got very angry. I could not hear the actors. I turned round. I looked at the man and the woman angrily. They did not pay any attention. In the end, I could not bear it. I turned round again. ‘I can’t hear a word!’ I said angril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‘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t’s none of your business,’ the young man said rudely. “This is a private conversation!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50840" y="552600"/>
            <a:ext cx="504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nesel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b. enjo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doing) s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8380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43200" y="15238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7160" y="2590920"/>
            <a:ext cx="57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the play. (√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talking with him. (√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him. (×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7772400" y="6019920"/>
            <a:ext cx="585720" cy="433440"/>
          </a:xfrm>
          <a:custGeom>
            <a:avLst/>
            <a:gdLst>
              <a:gd name="textAreaLeft" fmla="*/ 28080 w 585720"/>
              <a:gd name="textAreaRight" fmla="*/ 557640 w 585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182" h="21600">
                <a:moveTo>
                  <a:pt x="0" y="0"/>
                </a:moveTo>
                <a:lnTo>
                  <a:pt x="29182" y="0"/>
                </a:lnTo>
                <a:lnTo>
                  <a:pt x="29182" y="21600"/>
                </a:lnTo>
                <a:lnTo>
                  <a:pt x="0" y="21600"/>
                </a:lnTo>
                <a:close/>
              </a:path>
              <a:path fill="lightenLess" w="29182" h="21600">
                <a:moveTo>
                  <a:pt x="0" y="0"/>
                </a:moveTo>
                <a:lnTo>
                  <a:pt x="29182" y="0"/>
                </a:lnTo>
                <a:lnTo>
                  <a:pt x="27782" y="1400"/>
                </a:lnTo>
                <a:lnTo>
                  <a:pt x="1400" y="1400"/>
                </a:lnTo>
                <a:close/>
              </a:path>
              <a:path fill="darken" w="29182" h="21600">
                <a:moveTo>
                  <a:pt x="29182" y="0"/>
                </a:moveTo>
                <a:lnTo>
                  <a:pt x="29182" y="21600"/>
                </a:lnTo>
                <a:lnTo>
                  <a:pt x="27782" y="20200"/>
                </a:lnTo>
                <a:lnTo>
                  <a:pt x="27782" y="1400"/>
                </a:lnTo>
                <a:close/>
              </a:path>
              <a:path fill="darkenLess" w="29182" h="21600">
                <a:moveTo>
                  <a:pt x="29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82" y="20200"/>
                </a:lnTo>
                <a:close/>
              </a:path>
              <a:path fill="lighten" w="29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82" h="21600">
                <a:moveTo>
                  <a:pt x="14591" y="3837"/>
                </a:moveTo>
                <a:lnTo>
                  <a:pt x="17167" y="6448"/>
                </a:lnTo>
                <a:lnTo>
                  <a:pt x="17167" y="4707"/>
                </a:lnTo>
                <a:lnTo>
                  <a:pt x="18943" y="4707"/>
                </a:lnTo>
                <a:lnTo>
                  <a:pt x="18943" y="8224"/>
                </a:lnTo>
                <a:lnTo>
                  <a:pt x="21554" y="10800"/>
                </a:lnTo>
                <a:lnTo>
                  <a:pt x="19900" y="10800"/>
                </a:lnTo>
                <a:lnTo>
                  <a:pt x="19900" y="17989"/>
                </a:lnTo>
                <a:lnTo>
                  <a:pt x="9282" y="17989"/>
                </a:lnTo>
                <a:lnTo>
                  <a:pt x="9282" y="10800"/>
                </a:lnTo>
                <a:lnTo>
                  <a:pt x="7628" y="10800"/>
                </a:lnTo>
                <a:close/>
              </a:path>
              <a:path fill="darkenLess" w="29182" h="21600">
                <a:moveTo>
                  <a:pt x="17167" y="6448"/>
                </a:moveTo>
                <a:lnTo>
                  <a:pt x="17167" y="4707"/>
                </a:lnTo>
                <a:lnTo>
                  <a:pt x="18943" y="4707"/>
                </a:lnTo>
                <a:lnTo>
                  <a:pt x="18943" y="8224"/>
                </a:lnTo>
                <a:close/>
              </a:path>
              <a:path fill="darkenLess" w="29182" h="21600">
                <a:moveTo>
                  <a:pt x="13669" y="14299"/>
                </a:moveTo>
                <a:lnTo>
                  <a:pt x="15514" y="14299"/>
                </a:lnTo>
                <a:lnTo>
                  <a:pt x="15514" y="17989"/>
                </a:lnTo>
                <a:lnTo>
                  <a:pt x="19900" y="17989"/>
                </a:lnTo>
                <a:lnTo>
                  <a:pt x="19900" y="10800"/>
                </a:lnTo>
                <a:lnTo>
                  <a:pt x="9282" y="10800"/>
                </a:lnTo>
                <a:lnTo>
                  <a:pt x="9282" y="17989"/>
                </a:lnTo>
                <a:lnTo>
                  <a:pt x="13669" y="17989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523880"/>
          <a:ext cx="8686800" cy="426744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1640"/>
                <a:gridCol w="1241280"/>
                <a:gridCol w="1241640"/>
                <a:gridCol w="1239840"/>
                <a:gridCol w="1241280"/>
              </a:tblGrid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n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o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ich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o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ich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How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re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n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eek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en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o the theatr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14600" y="533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 simple statem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79040" y="225360"/>
            <a:ext cx="403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ummary writing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1436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writer went to the theatre last week. He did not enjoy the play. A young man and a young woman were sitting behind him. They were talking loudly. The writer could not hear the actors. He turned round. ‘I can’t hear a word!’ he said. “This is a private conversation!’ the young man sai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55words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3:50:41Z</dcterms:created>
  <dc:creator/>
  <dc:description/>
  <dc:language>en-US</dc:language>
  <cp:lastModifiedBy>st</cp:lastModifiedBy>
  <dcterms:modified xsi:type="dcterms:W3CDTF">2002-07-10T01:35:47Z</dcterms:modified>
  <cp:revision>14</cp:revision>
  <dc:subject/>
  <dc:title>PowerPoint 演示文稿</dc:title>
</cp:coreProperties>
</file>